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964-7193-4F77-AC65-43F7744C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F848-FE39-4408-88ED-557C24AA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3F8-89B2-45FE-A31D-0F1871C5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1ED-B438-4661-8632-DE97AFBB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AA1-330D-4D0D-9388-7E481F9F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F18-C0F9-45F1-A383-56AFF615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8BA2-E016-4E44-84CA-8362D514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1ECC-8844-4D7E-9E59-618330D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1AE6-5E7A-4DD6-8E5B-FEDDB79A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9B14-552F-4819-8242-629D8A8B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F4AB-0D3E-4C54-9E1C-1B4F7A8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E1E9-907A-4FF6-8BF3-15E202D7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ECD6-CFF9-499A-9A54-96FB332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F67-BCC9-4AEB-9446-10416B8F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842A-E38E-408E-84E1-BED9CF3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F515-D0C8-4CC4-8E53-3AF13278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8237-FAF6-45ED-B004-C4BB1C78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485B-EF48-4F31-9B2C-BC40EAD7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33FC-6D29-4127-856E-BC7A20EF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3E5-D122-444C-8471-2B3E1B17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B62-F72C-4B65-8AB6-6D3F84FB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6F1-723F-41E3-80A0-9BFB09DD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392-C819-4EE0-9101-DC90519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FF3-1ABF-496B-857D-101D3E2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764-D352-475F-A7D0-EF6D364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107-CE16-4005-A135-805E5604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EB1E-4038-4250-BB8B-74CEEF8F35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361C-E7E1-4C5C-A829-CE7CA3AF38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Housing I  7.05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chnological Advances in Home Design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yclable build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homes to use less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x steel is stronger than wood so for framing less material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tomated management syst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nd centrally controlled system based on comput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erg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$$$$$ to the cost of home, but will reduce energy bills and insurance cost over life of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_799128_pursepad300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RT houses: 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ucture with a central computer for programming its environment, devices, and appl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9"/>
          <p:cNvPicPr/>
          <p:nvPr/>
        </p:nvPicPr>
        <p:blipFill>
          <a:blip r:embed="rId1"/>
          <a:stretch/>
        </p:blipFill>
        <p:spPr>
          <a:xfrm>
            <a:off x="2057400" y="2362320"/>
            <a:ext cx="5257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e circui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allation of a TV and cameras placed so that areas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owner can use computer to check on home at any time from any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tic Pip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er weight, less expensive than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iodegr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local code to see size and type of pip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9247asidebig"/>
          <p:cNvPicPr/>
          <p:nvPr/>
        </p:nvPicPr>
        <p:blipFill>
          <a:blip r:embed="rId1"/>
          <a:stretch/>
        </p:blipFill>
        <p:spPr>
          <a:xfrm>
            <a:off x="4267080" y="3975120"/>
            <a:ext cx="2743200" cy="185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pipe"/>
          <p:cNvPicPr/>
          <p:nvPr/>
        </p:nvPicPr>
        <p:blipFill>
          <a:blip r:embed="rId2"/>
          <a:stretch/>
        </p:blipFill>
        <p:spPr>
          <a:xfrm>
            <a:off x="990720" y="4114800"/>
            <a:ext cx="25905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mate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ganically based building materials made from recycled materials; less expensive, last longer than wood, won’t warp or split, has high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molded into variety of shapes/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: it is not biodegr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tic l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de from recycled pla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ow maintenance option for decking and other outdoo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ite l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by applying pressure to paper thin strips of wood that have been sprayed with g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beams, joists, studs, window/door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nsive than real wood but stronger and less likely to warp or sh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Lighting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on sensor ligh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causes light to turn on within a given are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ght emitting diode (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s less energy than incandescent bulb and last 10x longer, light is very focused and durable, will not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82f3afdc-d1bc-4f8e-8a7c-2e0a1cec143a_300"/>
          <p:cNvPicPr/>
          <p:nvPr/>
        </p:nvPicPr>
        <p:blipFill>
          <a:blip r:embed="rId1"/>
          <a:stretch/>
        </p:blipFill>
        <p:spPr>
          <a:xfrm>
            <a:off x="6095880" y="380880"/>
            <a:ext cx="15624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3581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n buil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designing, building, and operating homes to use materials, energy and water effici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green%20building%20drawing"/>
          <p:cNvPicPr/>
          <p:nvPr/>
        </p:nvPicPr>
        <p:blipFill>
          <a:blip r:embed="rId1"/>
          <a:stretch/>
        </p:blipFill>
        <p:spPr>
          <a:xfrm>
            <a:off x="3886200" y="1752480"/>
            <a:ext cx="52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ternative”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chnologies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ar energy or geo-thermal heat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GHP-heating"/>
          <p:cNvPicPr/>
          <p:nvPr/>
        </p:nvPicPr>
        <p:blipFill>
          <a:blip r:embed="rId1"/>
          <a:stretch/>
        </p:blipFill>
        <p:spPr>
          <a:xfrm>
            <a:off x="2362320" y="2895480"/>
            <a:ext cx="52545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nsulation"/>
          <p:cNvPicPr/>
          <p:nvPr/>
        </p:nvPicPr>
        <p:blipFill>
          <a:blip r:embed="rId1"/>
          <a:stretch/>
        </p:blipFill>
        <p:spPr>
          <a:xfrm>
            <a:off x="5715000" y="2057400"/>
            <a:ext cx="3219480" cy="292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nsulationProducts"/>
          <p:cNvPicPr/>
          <p:nvPr/>
        </p:nvPicPr>
        <p:blipFill>
          <a:blip r:embed="rId2"/>
          <a:stretch/>
        </p:blipFill>
        <p:spPr>
          <a:xfrm>
            <a:off x="609480" y="2057400"/>
            <a:ext cx="42865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-efficient heating &amp; cooling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x. low-e gla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efficient appl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28" descr="dyson_washing_machine_jan_04"/>
          <p:cNvPicPr/>
          <p:nvPr/>
        </p:nvPicPr>
        <p:blipFill>
          <a:blip r:embed="rId1"/>
          <a:stretch/>
        </p:blipFill>
        <p:spPr>
          <a:xfrm>
            <a:off x="4952880" y="1371600"/>
            <a:ext cx="3687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59:46Z</dcterms:created>
  <dc:creator>WSFCS Workstation</dc:creator>
  <dc:description/>
  <dc:language>en-US</dc:language>
  <cp:lastModifiedBy>s.brooks</cp:lastModifiedBy>
  <dcterms:modified xsi:type="dcterms:W3CDTF">2010-11-09T14:56:25Z</dcterms:modified>
  <cp:revision>9</cp:revision>
  <dc:subject/>
  <dc:title>7.05 Technological Advances in Home Design </dc:title>
</cp:coreProperties>
</file>